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005061-713C-414D-8A20-75BBB76E1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846B8D-1507-4CDE-A8BE-0622EA7D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A95B-328B-44D6-B2E5-357071B87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045320"/>
            <a:ext cx="7543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E8F2-F36C-4478-9707-D53A07F4D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DF80-EFE1-4E18-BEBA-5D6E7E10F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1219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219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045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045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045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A081-9BCB-4506-9A5C-CB1326AFE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3687-36DA-48E4-99D5-EDE882B13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045320"/>
            <a:ext cx="7543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4045320"/>
            <a:ext cx="7543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4640" y="1219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1219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4045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4640" y="4045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4045320"/>
            <a:ext cx="24289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D690-CC4F-456F-9246-A66639A81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5347-739D-40B5-8988-8856451FE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B3A1-8079-4362-82F4-F24712C60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C863-BAF9-40A7-BDBD-BB6838F52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6CE1-2193-43E8-95A4-50EA726F9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045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6E7D-EBE7-4BEC-870A-9055E8C1F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219320"/>
            <a:ext cx="3681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45320"/>
            <a:ext cx="7543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2EA2-406E-4CDB-B360-A36EF2D9F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%20template%20final%20body%20at%20175%20copyb" descr=""/>
          <p:cNvPicPr/>
          <p:nvPr/>
        </p:nvPicPr>
        <p:blipFill>
          <a:blip r:embed="rId2"/>
          <a:srcRect l="0" t="0" r="0" b="20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343400" y="66290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BE0A-B771-4658-A9B5-57AA5B39A3E2}" type="slidenum">
              <a:rPr b="0" lang="en-US" sz="9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6373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inal%20template%20graphic%204_17_00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67820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114320" y="664380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057040"/>
            <a:ext cx="678168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Lightweight CCM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14240" y="3428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itial Submission Present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34340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rank Pilhof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p@mc.c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ubmitters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bmitted by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rcury Computer Systems, Inc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AL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pported by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ythe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raunhofer Foku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7B2E-4414-4B41-B55C-D3598267670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Goal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bset CCM for embedded system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duce footprint &amp; overhea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main compatible with “full” CCM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urce portabilit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rface compatibility (remaining features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nsure compatibility with emerging CCM-related standard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loyment and Configuration, …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lign with Minimum CORB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BA5B-4E12-4500-91C6-E49575356A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eatures Retained in Subse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ll kinds of por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acets/receptacles/event sources/event sink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om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Generic port management operations in CCMObjec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nolithic implementation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ssion components / containe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4BE5-092A-44D9-AEA8-B60E97B38A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47160"/>
            <a:ext cx="7848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eatures Excluded from Subse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Keyed hom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rge overhead and complexit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ocess and Entity containe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rsistency not relevant in embedded systems domai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nent segment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dundant in CC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necessary with introduction of D+C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D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t needed after removal of PSDL and segment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DL 3 is suffici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8F52-3A8E-4C17-9033-F0E379FC04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238880" cy="7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eatures Excluded from Subset (2)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CMObject introspec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nly useful in managing dynamic applications and debuggin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bugging can be done in full CC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agement can be done using D&amp;C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quivalent IDL for port managemen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dundant, can use generic operation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eneric interface is required for D&amp;C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rvice containe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be “emulated” with session contain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952B-A3FB-4E9D-91C5-BC372FCB1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ssues under Discussi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venttype / Cooki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s valuetypes, which are not in Minimum CORB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aluetypes are considered “heavy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uld be replaced by struc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nge would break interoperabilit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3685-40D7-49FC-AEE4-99556C6F50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on-Issu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asic vs. extended componen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asic components insuffici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ightweight Services usag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thogonal to components specific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OA usag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rent CCM implementations glue containers on top of PO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ever, that is an implementation choi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lementations without POA possibl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4DD9-236F-48B8-A8AA-BF7522A09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lan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ync with relevant submissions, FTFs and RTF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inimum CORBA RTF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CM RTF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loyment and Configuration submitt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ghtweight Services submitt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vised submission deadline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y 12, 2003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D926-11C1-4324-8EAD-835DF49EC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00:11Z</dcterms:created>
  <dc:creator>Frank Pilhofer</dc:creator>
  <dc:description/>
  <dc:language>en-US</dc:language>
  <cp:lastModifiedBy>Alfred E. Neumann</cp:lastModifiedBy>
  <cp:lastPrinted>2001-04-18T18:28:43Z</cp:lastPrinted>
  <dcterms:modified xsi:type="dcterms:W3CDTF">2003-03-24T15:11:09Z</dcterms:modified>
  <cp:revision>105</cp:revision>
  <dc:subject/>
  <dc:title>No Slide Title</dc:title>
</cp:coreProperties>
</file>